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D5CA-9262-4A1F-89AE-E67137A9A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CAB4-DBBA-404A-ADE5-7F16C433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C9A9-1347-41EB-B3D7-538BB9D9D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0E73-BA1D-4FE3-B273-09EB25E9F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6F44-49E6-4D50-8676-22FDDE06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CF5C-1C4B-4918-A837-09C6A4D1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7675-69D8-490B-B5FE-F18767E7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A3BC-C387-43BF-B146-B940DE97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21F6-E22E-4505-8088-F3867BA0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2947-8823-4456-AC63-E33E2CB9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2D5D-A390-4874-B898-7C23AB27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1A99-F25C-4478-9F94-85E7131B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84D4-DD76-4A56-BB79-4CC334173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7T06:25:03Z</dcterms:created>
  <dc:creator>Tim Schmoyer</dc:creator>
  <dc:description/>
  <dc:language>en-US</dc:language>
  <cp:lastModifiedBy>Tim Schmoyer</cp:lastModifiedBy>
  <dcterms:modified xsi:type="dcterms:W3CDTF">2007-10-07T20:51:51Z</dcterms:modified>
  <cp:revision>4</cp:revision>
  <dc:subject/>
  <dc:title>Slide 1</dc:title>
</cp:coreProperties>
</file>