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BD9-99F6-45FE-B9B6-88E98B78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2A0-6D55-4736-BE91-4E87D11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654-C4FD-43F8-8F9F-0690F232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D13-FEEE-4895-B14C-00279C6C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D5D-6926-4BA9-91B6-158FB39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6E7-A0DF-4958-B366-A155E78D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A49-0051-425E-A5F3-9EF161C6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E5A-FCFD-4CFD-AACC-A8FC03BD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644-78D9-4C9A-A9AC-4B45A5F1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C27-D9EA-4189-817A-4F5CCF0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A4F-11E7-42F1-8339-6AC57BC1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FAB-FD45-460F-99F8-F7C045F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3305-B988-49B6-94E8-55358F4DB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609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mmunicating with Teena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809520"/>
            <a:ext cx="4800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st what langu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ey speak, anyw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38080" y="2743200"/>
            <a:ext cx="5410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acts Ab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990720"/>
            <a:ext cx="6429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ome Bas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4495680"/>
            <a:ext cx="5181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eenagers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8377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nagers are terribly ego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nagers have an immortality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nagers thrive on drama (at least the female 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17:30:32Z</dcterms:created>
  <dc:creator>Brett</dc:creator>
  <dc:description/>
  <dc:language>en-US</dc:language>
  <cp:lastModifiedBy>Brett</cp:lastModifiedBy>
  <dcterms:modified xsi:type="dcterms:W3CDTF">2006-06-19T18:42:11Z</dcterms:modified>
  <cp:revision>2</cp:revision>
  <dc:subject/>
  <dc:title>Communicating with Teenagers</dc:title>
</cp:coreProperties>
</file>