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52C-F68C-4A61-B1FC-75336BB8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7D0-B24F-4F76-9D15-A8A0FE49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CE6-CFFE-4572-9FAD-BC8E8959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FA1-8F85-4851-928D-D26968CE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7117-8ABE-4E10-922D-98873537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092-4AD0-44FA-B458-77BFD7C0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9E1-9661-4006-AFBE-5584525D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639D-F2FB-46FA-B987-C6734A30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7D2-85BD-4C3A-9884-71057E39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9BB-D05F-41A4-A36D-54D31B05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C40-8B07-41BA-9055-2BA879DE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F3E-0EF4-4ED5-B4F4-ADE9303F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C109-A684-4C47-8133-A9A7A90F2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95680" y="1828800"/>
            <a:ext cx="39625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Gaston"/>
              </a:rPr>
              <a:t>Questions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Gaston"/>
              <a:ea typeface="Gast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Gaston"/>
              </a:rPr>
              <a:t>Anyone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Gaston"/>
              <a:ea typeface="Gas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952880" y="2209680"/>
            <a:ext cx="396252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Gaston"/>
              </a:rPr>
              <a:t>Questions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Gaston"/>
              <a:ea typeface="Gast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Gaston"/>
              </a:rPr>
              <a:t>Anyone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Gaston"/>
              <a:ea typeface="Gas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114800" y="380880"/>
            <a:ext cx="464832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ceAgeD"/>
              </a:rPr>
              <a:t>Questions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ceAgeD"/>
              <a:ea typeface="IceAg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ceAgeD"/>
              </a:rPr>
              <a:t>Anyon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ceAgeD"/>
              <a:ea typeface="IceAg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28600" y="304920"/>
            <a:ext cx="46483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usi"/>
              </a:rPr>
              <a:t>The Nut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usi"/>
              <a:ea typeface="Fu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usi"/>
              </a:rPr>
              <a:t>and Bolt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usi"/>
              <a:ea typeface="Fu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usi"/>
              </a:rPr>
              <a:t>of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usi"/>
              <a:ea typeface="Fu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usi"/>
              </a:rPr>
              <a:t>Evangelis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usi"/>
              <a:ea typeface="Fus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80880" y="4572000"/>
            <a:ext cx="8001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HandScriptLefty"/>
              </a:rPr>
              <a:t>God's Story, Our Sto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HandScriptLefty"/>
              <a:ea typeface="HandScriptLeft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048120" y="533520"/>
            <a:ext cx="510516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lock"/>
              </a:rPr>
              <a:t>Taking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lock"/>
              <a:ea typeface="Blo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Block"/>
              </a:rPr>
              <a:t>Fligh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Block"/>
              <a:ea typeface="Blo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886200" y="3429000"/>
            <a:ext cx="5095800" cy="32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LaureHead"/>
              </a:rPr>
              <a:t>Evangelism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LaureHead"/>
              <a:ea typeface="LaureHea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LaureHead"/>
              </a:rPr>
              <a:t>for m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LaureHead"/>
              <a:ea typeface="LaureHea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LaureHead"/>
              </a:rPr>
              <a:t>lif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LaureHead"/>
              <a:ea typeface="LaureHea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800600" y="2057400"/>
            <a:ext cx="36576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Gotham Nights"/>
              </a:rPr>
              <a:t>Help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Gotham Nights"/>
              <a:ea typeface="Gotham Night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Gotham Nights"/>
              </a:rPr>
              <a:t>I'm Lost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Gotham Nights"/>
              <a:ea typeface="Gotham Night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886200" y="3429000"/>
            <a:ext cx="5095800" cy="32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LaureHead"/>
              </a:rPr>
              <a:t>Evangelism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LaureHead"/>
              <a:ea typeface="LaureHea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LaureHead"/>
              </a:rPr>
              <a:t>for m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LaureHead"/>
              <a:ea typeface="LaureHea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LaureHead"/>
              </a:rPr>
              <a:t>lif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LaureHead"/>
              <a:ea typeface="LaureHead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447920" y="4648320"/>
            <a:ext cx="1447560" cy="1085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577224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1447920" y="5772240"/>
            <a:ext cx="1447560" cy="1085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2895480" y="577224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15:41:03Z</dcterms:created>
  <dc:creator>Brett</dc:creator>
  <dc:description/>
  <dc:language>en-US</dc:language>
  <cp:lastModifiedBy>Brett</cp:lastModifiedBy>
  <dcterms:modified xsi:type="dcterms:W3CDTF">2007-05-14T14:05:15Z</dcterms:modified>
  <cp:revision>5</cp:revision>
  <dc:subject/>
  <dc:title>Slide 1</dc:title>
</cp:coreProperties>
</file>