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2F2-4D49-43C9-8B56-85FD7B94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325-68C4-4D10-A1E0-71D612AF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14F-7FFF-4957-B159-330C2340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A02-BF8B-4066-B20F-837FF6CD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137-482A-47FD-A79E-3216CDAF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A6E-6C18-4028-8F65-D2F741A4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0FD-98C8-4E65-9EAB-3CE5B47A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51B-36FD-448A-9B10-5A57903F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531-B697-474B-9F95-C426F492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F32-D200-43BA-AA7B-4BC1FE89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F1F-887B-489F-9772-0EDE0D26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7AB-F27F-4FB3-8B9C-3D2CDBA3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A4B4-7F0F-495C-B438-611D76AF9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380880"/>
            <a:ext cx="5167440" cy="340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LaureHead"/>
              </a:rPr>
              <a:t>th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LaureHead"/>
              <a:ea typeface="LaureHe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LaureHead"/>
              </a:rPr>
              <a:t>big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LaureHead"/>
              <a:ea typeface="LaureHe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LaureHead"/>
              </a:rPr>
              <a:t>though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LaureHead"/>
              <a:ea typeface="LaureHea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1382800">
            <a:off x="1066680" y="1828440"/>
            <a:ext cx="3276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1905120" cy="1900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86200" y="1295280"/>
            <a:ext cx="2514600" cy="19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21331200">
            <a:off x="1066680" y="2971440"/>
            <a:ext cx="2440080" cy="3657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228600"/>
            <a:ext cx="32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lacklightD"/>
              </a:rPr>
              <a:t>Luke 10.30-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228600"/>
            <a:ext cx="396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lacklightD"/>
              </a:rPr>
              <a:t>Scripture D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505320"/>
            <a:ext cx="472428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BlacklightD"/>
              </a:rPr>
              <a:t>Find examples of people in Scripture who showed f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1131400">
            <a:off x="685800" y="762120"/>
            <a:ext cx="3889440" cy="5565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1024600">
            <a:off x="157320" y="302760"/>
            <a:ext cx="24382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21024600">
            <a:off x="228240" y="456840"/>
            <a:ext cx="2219400" cy="117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 rot="386400">
            <a:off x="3200040" y="228600"/>
            <a:ext cx="24382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409800">
            <a:off x="3352320" y="380880"/>
            <a:ext cx="2136960" cy="1109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52280" y="4114800"/>
            <a:ext cx="29718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267080"/>
            <a:ext cx="262872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 rot="340200">
            <a:off x="5867280" y="4114800"/>
            <a:ext cx="29718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 rot="352800">
            <a:off x="6021360" y="4286160"/>
            <a:ext cx="2684520" cy="188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 rot="273000">
            <a:off x="5860800" y="227160"/>
            <a:ext cx="297180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 rot="283800">
            <a:off x="6018120" y="385920"/>
            <a:ext cx="2667240" cy="193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2895480" y="1828800"/>
            <a:ext cx="35053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048120" y="19810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676600" cy="1959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 rot="382200">
            <a:off x="6629400" y="228240"/>
            <a:ext cx="1925640" cy="28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 rot="21173400">
            <a:off x="533160" y="4229280"/>
            <a:ext cx="2819160" cy="225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 rot="602400">
            <a:off x="5790960" y="4495680"/>
            <a:ext cx="3063600" cy="2041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5" name=""/>
          <p:cNvSpPr/>
          <p:nvPr/>
        </p:nvSpPr>
        <p:spPr>
          <a:xfrm>
            <a:off x="2362320" y="2590920"/>
            <a:ext cx="3657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LaureHead"/>
              </a:rPr>
              <a:t>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3:43:57Z</dcterms:created>
  <dc:creator>Brett</dc:creator>
  <dc:description/>
  <dc:language>en-US</dc:language>
  <cp:lastModifiedBy>Brett</cp:lastModifiedBy>
  <dcterms:modified xsi:type="dcterms:W3CDTF">2007-04-22T20:38:30Z</dcterms:modified>
  <cp:revision>13</cp:revision>
  <dc:subject/>
  <dc:title>Slide 1</dc:title>
</cp:coreProperties>
</file>