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D47-F7FB-43EB-B083-3407FA1C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3DB-2D33-4F04-8BBF-C0B08495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E9C-4338-4D4D-829D-BE40F1AF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323-EF25-4E4D-9D23-5CD8C82D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B50-B9EE-47E4-9F0E-2E2583CA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AFB-0E91-4730-AA2A-1C67C9EC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B87-C19C-47C5-8DBF-3B8332B9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9C2-255F-4651-90F6-F373D05C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03B-2B26-4439-9AE6-590879F8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C50-697E-4B46-8684-3C47C14A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AC0-0548-4640-A678-18CA2DC6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D12-9562-4662-B6F3-67CB7EF2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31D9-DC19-4907-AA0B-AE8122618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2292480" cy="34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4495680"/>
            <a:ext cx="77724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Evanescent"/>
              </a:rPr>
              <a:t>Story Ti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228600"/>
            <a:ext cx="32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lacklightD"/>
              </a:rPr>
              <a:t>Acts 17.16-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32:32Z</dcterms:created>
  <dc:creator>Brett</dc:creator>
  <dc:description/>
  <dc:language>en-US</dc:language>
  <cp:lastModifiedBy>Brett</cp:lastModifiedBy>
  <dcterms:modified xsi:type="dcterms:W3CDTF">2007-04-17T15:37:01Z</dcterms:modified>
  <cp:revision>6</cp:revision>
  <dc:subject/>
  <dc:title>Slide 1</dc:title>
</cp:coreProperties>
</file>