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60C-3F0D-448B-B02D-16F3F786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36A-5BA3-4228-BB3A-4A9631D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451-18B1-421E-B2A7-91DA97F9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135-60B5-42EC-ADC0-EA192735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8ED-09CB-49F1-B857-692DFE1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C0F-ADE3-453A-AB3C-27DDDB6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D66-A4E3-443C-B6DA-4D96A5D6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B5D-A8EA-4A2D-908A-B9976A25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0BD-B161-4AA2-894C-A2C710F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C3E-03C5-4FC7-BC65-F710CBC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399-1AA2-4201-BBFB-B1BE659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AA4-ECBA-4B69-A016-DDB7CCA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E3D2-18C6-4985-AEC4-473FAE8F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30492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ndScriptLefty"/>
              </a:rPr>
              <a:t>If someone claims to believe in God, acts like it, cries at altar calls, and talks about Him on their MySpac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HandScriptLefty"/>
              </a:rPr>
              <a:t>©</a:t>
            </a:r>
            <a:r>
              <a:rPr b="1" lang="en-US" sz="3600" spc="-1" strike="noStrike">
                <a:solidFill>
                  <a:srgbClr val="000000"/>
                </a:solidFill>
                <a:latin typeface="HandScriptLefty"/>
              </a:rPr>
              <a:t> but doesn’t try to follow God and does not realize that they are acting ungodly, then what category do they fit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3049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ndScriptLefty"/>
              </a:rPr>
              <a:t>How do you determine what stage of being lost a person is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3049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ndScriptLefty"/>
              </a:rPr>
              <a:t>How do we pray for our lost friends and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8:14:16Z</dcterms:created>
  <dc:creator>Brett</dc:creator>
  <dc:description/>
  <dc:language>en-US</dc:language>
  <cp:lastModifiedBy>Brett</cp:lastModifiedBy>
  <dcterms:modified xsi:type="dcterms:W3CDTF">2007-05-08T18:51:59Z</dcterms:modified>
  <cp:revision>2</cp:revision>
  <dc:subject/>
  <dc:title>Slide 1</dc:title>
</cp:coreProperties>
</file>