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273-E54F-41A3-87B6-79B89634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AE4-FFBA-4829-9F76-6A6E79AA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67D-18B9-40B1-9847-CC105C47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EB8-54C1-43D9-9920-6559BDA9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A31-301C-42F4-905E-B5CD1C08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FBB-1108-4C78-98ED-35358D1F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CF8-7129-4F6F-B4A6-4CDA9A6E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774-E016-4824-86AF-00405C24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CB8-C5BE-4DC7-8DD6-589BE5EA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237-1244-484D-83E8-368894CD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86E-6678-4686-936E-0501210A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DCF-F3B2-4523-B8AE-84EB43D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975B-9B18-469D-96E9-4746DB29E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229200">
            <a:off x="5430960" y="663480"/>
            <a:ext cx="295272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228600"/>
            <a:ext cx="426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lacklightD"/>
              </a:rPr>
              <a:t>1 Corinthians 1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0" y="380880"/>
            <a:ext cx="4038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sia"/>
              </a:rPr>
              <a:t>Review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sia"/>
              <a:ea typeface="As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775600">
            <a:off x="380880" y="533160"/>
            <a:ext cx="2133720" cy="2130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15000" y="533520"/>
            <a:ext cx="2971800" cy="23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21331200">
            <a:off x="2666880" y="2514240"/>
            <a:ext cx="2440080" cy="365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685800"/>
            <a:ext cx="6705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Roman Evangel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 rot="239400">
            <a:off x="304920" y="2666880"/>
            <a:ext cx="53337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16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eltic Evangel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16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29248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1480" y="3276720"/>
            <a:ext cx="3810240" cy="3400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3046320"/>
            <a:ext cx="59817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519000">
            <a:off x="5410080" y="457200"/>
            <a:ext cx="3087720" cy="4419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8120" y="990720"/>
            <a:ext cx="5257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Varsity"/>
              </a:rPr>
              <a:t>The Mea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32:32Z</dcterms:created>
  <dc:creator>Brett</dc:creator>
  <dc:description/>
  <dc:language>en-US</dc:language>
  <cp:lastModifiedBy>Brett</cp:lastModifiedBy>
  <dcterms:modified xsi:type="dcterms:W3CDTF">2007-05-01T17:35:37Z</dcterms:modified>
  <cp:revision>17</cp:revision>
  <dc:subject/>
  <dc:title>Slide 1</dc:title>
</cp:coreProperties>
</file>