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9F2-518F-42CC-AFDC-BE4E6F05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3DB-FD59-4DA4-9B37-402E4681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9F7-4431-40A8-9608-86A05739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01A-8190-4BB6-9F00-F219BF0A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141-D1E1-4B05-8D60-E5C8DE85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8D1-4FD9-40F0-B0D2-924A5C3B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230-8354-4CD0-AF12-F903083D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1D8-B669-4AFE-BD09-18AD3AA9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58B-C272-40C5-9AF8-8ED082F1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629-B9EC-4929-9CFC-736506F5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6D3-5F5F-43AB-AA1A-F7732417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FBD-E430-4243-894C-00867208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FC54-A40A-4A1F-BFED-48355FA0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0775600">
            <a:off x="380880" y="533160"/>
            <a:ext cx="2133720" cy="2130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715000" y="533520"/>
            <a:ext cx="2971800" cy="23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 rot="21331200">
            <a:off x="2666880" y="2514240"/>
            <a:ext cx="2440080" cy="365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609480"/>
            <a:ext cx="3805200" cy="33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halkDust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halkDust"/>
              <a:ea typeface="ChalkDu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halkDust"/>
              </a:rPr>
              <a:t>b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halkDust"/>
              <a:ea typeface="ChalkDu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halkDust"/>
              </a:rPr>
              <a:t>though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halkDust"/>
              <a:ea typeface="ChalkDu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952880" y="457200"/>
            <a:ext cx="3805200" cy="33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halkDust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halkDust"/>
              <a:ea typeface="ChalkDu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halkDust"/>
              </a:rPr>
              <a:t>b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halkDust"/>
              <a:ea typeface="ChalkDu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halkDust"/>
              </a:rPr>
              <a:t>Fin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halkDust"/>
              <a:ea typeface="ChalkDu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67000">
            <a:off x="4419720" y="1828440"/>
            <a:ext cx="3854160" cy="347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halkDust"/>
              </a:rPr>
              <a:t>Lost in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halkDust"/>
              </a:rPr>
              <a:t>th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4572000"/>
            <a:ext cx="58672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Dust"/>
              </a:rPr>
              <a:t>How do we see people lost in popular media (TV, movies, music, etc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halkDust"/>
              </a:rPr>
              <a:t>Lost in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halkDust"/>
              </a:rPr>
              <a:t>Scri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48765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Dust"/>
              </a:rPr>
              <a:t>How do we see people lost in Scrip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halkDust"/>
              </a:rPr>
              <a:t>What is Evange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228600"/>
            <a:ext cx="32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lacklightD"/>
              </a:rPr>
              <a:t>Luke 15.1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28600"/>
            <a:ext cx="32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lacklightD"/>
              </a:rPr>
              <a:t>Luke 15.8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228600"/>
            <a:ext cx="32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lacklightD"/>
              </a:rPr>
              <a:t>Luke 15.11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42:49Z</dcterms:created>
  <dc:creator>Brett</dc:creator>
  <dc:description/>
  <dc:language>en-US</dc:language>
  <cp:lastModifiedBy>Brett</cp:lastModifiedBy>
  <dcterms:modified xsi:type="dcterms:W3CDTF">2007-04-23T19:54:02Z</dcterms:modified>
  <cp:revision>6</cp:revision>
  <dc:subject/>
  <dc:title>Slide 1</dc:title>
</cp:coreProperties>
</file>