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5951-7BB9-4466-A856-33EAB16EA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498A-EFF0-4148-BBE1-20A4A9630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74BA-C6E1-4985-B66D-8AE0E2263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6D2E-F5C8-49C2-AC82-491CF5E04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A755-70C3-42DE-A55E-476D574AD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3627-190E-47E0-AF1E-CB0C56B4A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B08E-DBE1-466C-A61B-AA4BFD47B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412D-3958-4B6A-A6B4-D612143EF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529F-45F9-4C70-AC4C-41594EAFB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CE15-02E3-4368-9E69-4ECA2B7C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CB19-6F59-4D37-A55A-2C557030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71D9-FE3C-4B90-A608-E5487177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E9708-9BD9-4031-8203-721BF616AB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Unquenchabl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Unquenchable%20Background%2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152280" y="152280"/>
            <a:ext cx="51818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dddddd"/>
                  </a:outerShdw>
                </a:effectLst>
                <a:latin typeface="Dragon"/>
              </a:rPr>
              <a:t>Three Ways God Seeking Yo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dddddd"/>
                </a:outerShdw>
              </a:effectLst>
              <a:latin typeface="Dragon"/>
              <a:ea typeface="Dragon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914400"/>
            <a:ext cx="8610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Arial Black"/>
                <a:ea typeface="Times New Roman"/>
              </a:rPr>
              <a:t>3. Stay </a:t>
            </a:r>
            <a:r>
              <a:rPr b="0" lang="en-US" sz="3600" spc="-1" strike="noStrike" u="sng">
                <a:solidFill>
                  <a:srgbClr val="dddddd"/>
                </a:solidFill>
                <a:uFillTx/>
                <a:latin typeface="Arial Black"/>
                <a:ea typeface="Times New Roman"/>
              </a:rPr>
              <a:t>Hung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981080"/>
            <a:ext cx="9144000" cy="284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Verdana"/>
                <a:ea typeface="Times New Roman"/>
              </a:rPr>
              <a:t>Blessed are those who hunger and thirst for righteousness, for they will be fille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ddddd"/>
                </a:solidFill>
                <a:latin typeface="Verdana"/>
                <a:ea typeface="Times New Roman"/>
              </a:rPr>
              <a:t>Matthew 5:6 </a:t>
            </a:r>
            <a:r>
              <a:rPr b="0" lang="en-US" sz="4000" spc="-1" strike="noStrike">
                <a:solidFill>
                  <a:srgbClr val="dddddd"/>
                </a:solidFill>
                <a:latin typeface="Verdana"/>
                <a:ea typeface="Times New Roman"/>
              </a:rPr>
              <a:t>(NIV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0" y="6095880"/>
            <a:ext cx="53341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ff9933"/>
                  </a:outerShdw>
                </a:effectLst>
                <a:latin typeface="Dragon"/>
              </a:rPr>
              <a:t>Who God Seek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ff9933"/>
                </a:outerShdw>
              </a:effectLst>
              <a:latin typeface="Dragon"/>
              <a:ea typeface="Drag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Unquenchable%20Background%2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152280" y="152280"/>
            <a:ext cx="51818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dddddd"/>
                  </a:outerShdw>
                </a:effectLst>
                <a:latin typeface="Dragon"/>
              </a:rPr>
              <a:t>Three Ways God Seeking Yo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dddddd"/>
                </a:outerShdw>
              </a:effectLst>
              <a:latin typeface="Dragon"/>
              <a:ea typeface="Dragon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914400"/>
            <a:ext cx="8610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Arial Black"/>
                <a:ea typeface="Times New Roman"/>
              </a:rPr>
              <a:t>3. Stay </a:t>
            </a:r>
            <a:r>
              <a:rPr b="0" lang="en-US" sz="3600" spc="-1" strike="noStrike" u="sng">
                <a:solidFill>
                  <a:srgbClr val="dddddd"/>
                </a:solidFill>
                <a:uFillTx/>
                <a:latin typeface="Arial Black"/>
                <a:ea typeface="Times New Roman"/>
              </a:rPr>
              <a:t>Hung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981080"/>
            <a:ext cx="9144000" cy="223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Verdana"/>
                <a:ea typeface="Times New Roman"/>
              </a:rPr>
              <a:t>Worship does not satisfy our hunger for God - it whets our appetite.</a:t>
            </a:r>
            <a:r>
              <a:rPr b="0" i="1" lang="en-US" sz="4000" spc="-1" strike="noStrike">
                <a:solidFill>
                  <a:srgbClr val="dddddd"/>
                </a:solidFill>
                <a:latin typeface="Verdana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ddddd"/>
                </a:solidFill>
                <a:latin typeface="Verdana"/>
                <a:ea typeface="Times New Roman"/>
              </a:rPr>
              <a:t>Eugene Peters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0" y="6095880"/>
            <a:ext cx="53341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ff9933"/>
                  </a:outerShdw>
                </a:effectLst>
                <a:latin typeface="Dragon"/>
              </a:rPr>
              <a:t>Who God Seek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ff9933"/>
                </a:outerShdw>
              </a:effectLst>
              <a:latin typeface="Dragon"/>
              <a:ea typeface="Drag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Unquenchabl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Unquenchabl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52280" y="1219320"/>
            <a:ext cx="335304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9933"/>
                  </a:outerShdw>
                </a:effectLst>
                <a:latin typeface="Dragon"/>
              </a:rPr>
              <a:t>Wh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9933"/>
                </a:outerShdw>
              </a:effectLst>
              <a:latin typeface="Dragon"/>
              <a:ea typeface="Drago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9933"/>
                  </a:outerShdw>
                </a:effectLst>
                <a:latin typeface="Dragon"/>
              </a:rPr>
              <a:t>Go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9933"/>
                </a:outerShdw>
              </a:effectLst>
              <a:latin typeface="Dragon"/>
              <a:ea typeface="Drago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9933"/>
                  </a:outerShdw>
                </a:effectLst>
                <a:latin typeface="Dragon"/>
              </a:rPr>
              <a:t>Seek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9933"/>
                </a:outerShdw>
              </a:effectLst>
              <a:latin typeface="Dragon"/>
              <a:ea typeface="Drago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Unquenchable%20Background%2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0"/>
            <a:ext cx="9144000" cy="431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dddddd"/>
                </a:solidFill>
                <a:latin typeface="Arial Black"/>
                <a:ea typeface="Times New Roman"/>
              </a:rPr>
              <a:t>Yet a time is coming and has now come when the true worshipers will worship the Father in spirit and truth, </a:t>
            </a:r>
            <a:r>
              <a:rPr b="0" i="1" lang="en-US" sz="3600" spc="-1" strike="noStrike" u="sng">
                <a:solidFill>
                  <a:srgbClr val="dddddd"/>
                </a:solidFill>
                <a:uFillTx/>
                <a:latin typeface="Arial Black"/>
                <a:ea typeface="Times New Roman"/>
              </a:rPr>
              <a:t>for they are the kind of worshipers the Father seeks</a:t>
            </a:r>
            <a:r>
              <a:rPr b="0" i="1" lang="en-US" sz="3600" spc="-1" strike="noStrike">
                <a:solidFill>
                  <a:srgbClr val="dddddd"/>
                </a:solidFill>
                <a:latin typeface="Arial Black"/>
                <a:ea typeface="Times New Roman"/>
              </a:rPr>
              <a:t>. God is spirit, and his worshipers must worship in spirit and in truth.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Dragon"/>
                <a:ea typeface="Times New Roman"/>
              </a:rPr>
              <a:t>John 4:23-24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6095880"/>
            <a:ext cx="53341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ff9933"/>
                  </a:outerShdw>
                </a:effectLst>
                <a:latin typeface="Dragon"/>
              </a:rPr>
              <a:t>Who God Seek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ff9933"/>
                </a:outerShdw>
              </a:effectLst>
              <a:latin typeface="Dragon"/>
              <a:ea typeface="Dragon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Unquenchable%20Background%2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143000"/>
            <a:ext cx="9144000" cy="26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dddddd"/>
                </a:solidFill>
                <a:latin typeface="Verdana"/>
                <a:ea typeface="Times New Roman"/>
              </a:rPr>
              <a:t>Someone who is passionately devoted to God, living a life of true worship, is someone that </a:t>
            </a:r>
            <a:r>
              <a:rPr b="1" lang="en-US" sz="4200" spc="-1" strike="noStrike" u="sng">
                <a:solidFill>
                  <a:srgbClr val="dddddd"/>
                </a:solidFill>
                <a:uFillTx/>
                <a:latin typeface="Verdana"/>
                <a:ea typeface="Times New Roman"/>
              </a:rPr>
              <a:t>attracts</a:t>
            </a:r>
            <a:r>
              <a:rPr b="1" lang="en-US" sz="4200" spc="-1" strike="noStrike">
                <a:solidFill>
                  <a:srgbClr val="dddddd"/>
                </a:solidFill>
                <a:latin typeface="Verdana"/>
                <a:ea typeface="Times New Roman"/>
              </a:rPr>
              <a:t> the attention of God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28600" y="228600"/>
            <a:ext cx="3657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dddddd"/>
                  </a:outerShdw>
                </a:effectLst>
                <a:latin typeface="Dragon"/>
              </a:rPr>
              <a:t>Big Ide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dddddd"/>
                </a:outerShdw>
              </a:effectLst>
              <a:latin typeface="Dragon"/>
              <a:ea typeface="Drago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6095880"/>
            <a:ext cx="53341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ff9933"/>
                  </a:outerShdw>
                </a:effectLst>
                <a:latin typeface="Dragon"/>
              </a:rPr>
              <a:t>Who God Seek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ff9933"/>
                </a:outerShdw>
              </a:effectLst>
              <a:latin typeface="Dragon"/>
              <a:ea typeface="Dragon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Unquenchable%20Background%2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152280" y="152280"/>
            <a:ext cx="51818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dddddd"/>
                  </a:outerShdw>
                </a:effectLst>
                <a:latin typeface="Dragon"/>
              </a:rPr>
              <a:t>Three Ways God Seeking Yo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dddddd"/>
                </a:outerShdw>
              </a:effectLst>
              <a:latin typeface="Dragon"/>
              <a:ea typeface="Drago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914400"/>
            <a:ext cx="8610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Arial Black"/>
                <a:ea typeface="Times New Roman"/>
              </a:rPr>
              <a:t>1. Complete </a:t>
            </a:r>
            <a:r>
              <a:rPr b="0" lang="en-US" sz="3600" spc="-1" strike="noStrike" u="sng">
                <a:solidFill>
                  <a:srgbClr val="dddddd"/>
                </a:solidFill>
                <a:uFillTx/>
                <a:latin typeface="Arial Black"/>
                <a:ea typeface="Times New Roman"/>
              </a:rPr>
              <a:t>Tru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6095880"/>
            <a:ext cx="53341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ff9933"/>
                  </a:outerShdw>
                </a:effectLst>
                <a:latin typeface="Dragon"/>
              </a:rPr>
              <a:t>Who God Seek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ff9933"/>
                </a:outerShdw>
              </a:effectLst>
              <a:latin typeface="Dragon"/>
              <a:ea typeface="Dragon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Unquenchable%20Background%2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152280" y="152280"/>
            <a:ext cx="51818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dddddd"/>
                  </a:outerShdw>
                </a:effectLst>
                <a:latin typeface="Dragon"/>
              </a:rPr>
              <a:t>Three Ways God Seeking Yo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dddddd"/>
                </a:outerShdw>
              </a:effectLst>
              <a:latin typeface="Dragon"/>
              <a:ea typeface="Drago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914400"/>
            <a:ext cx="8610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Arial Black"/>
                <a:ea typeface="Times New Roman"/>
              </a:rPr>
              <a:t>1. Complete </a:t>
            </a:r>
            <a:r>
              <a:rPr b="0" lang="en-US" sz="3600" spc="-1" strike="noStrike" u="sng">
                <a:solidFill>
                  <a:srgbClr val="dddddd"/>
                </a:solidFill>
                <a:uFillTx/>
                <a:latin typeface="Arial Black"/>
                <a:ea typeface="Times New Roman"/>
              </a:rPr>
              <a:t>Tru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981080"/>
            <a:ext cx="9144000" cy="284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Verdana"/>
                <a:ea typeface="Times New Roman"/>
              </a:rPr>
              <a:t>Trust in the LORD with all your heart and lean not on your own understanding;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ddddd"/>
                </a:solidFill>
                <a:latin typeface="Verdana"/>
                <a:ea typeface="Times New Roman"/>
              </a:rPr>
              <a:t>Proverbs 3:5</a:t>
            </a:r>
            <a:r>
              <a:rPr b="0" lang="en-US" sz="4000" spc="-1" strike="noStrike">
                <a:solidFill>
                  <a:srgbClr val="dddddd"/>
                </a:solidFill>
                <a:latin typeface="Verdana"/>
                <a:ea typeface="Times New Roman"/>
              </a:rPr>
              <a:t> (NIV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0" y="6095880"/>
            <a:ext cx="53341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ff9933"/>
                  </a:outerShdw>
                </a:effectLst>
                <a:latin typeface="Dragon"/>
              </a:rPr>
              <a:t>Who God Seek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ff9933"/>
                </a:outerShdw>
              </a:effectLst>
              <a:latin typeface="Dragon"/>
              <a:ea typeface="Drag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Unquenchable%20Background%2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152280" y="152280"/>
            <a:ext cx="51818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dddddd"/>
                  </a:outerShdw>
                </a:effectLst>
                <a:latin typeface="Dragon"/>
              </a:rPr>
              <a:t>Three Ways God Seeking Yo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dddddd"/>
                </a:outerShdw>
              </a:effectLst>
              <a:latin typeface="Dragon"/>
              <a:ea typeface="Drago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914400"/>
            <a:ext cx="8610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Arial Black"/>
                <a:ea typeface="Times New Roman"/>
              </a:rPr>
              <a:t>2. </a:t>
            </a:r>
            <a:r>
              <a:rPr b="0" lang="en-US" sz="3600" spc="-1" strike="noStrike" u="sng">
                <a:solidFill>
                  <a:srgbClr val="dddddd"/>
                </a:solidFill>
                <a:uFillTx/>
                <a:latin typeface="Arial Black"/>
                <a:ea typeface="Times New Roman"/>
              </a:rPr>
              <a:t>Acknowledge</a:t>
            </a:r>
            <a:r>
              <a:rPr b="0" lang="en-US" sz="3600" spc="-1" strike="noStrike">
                <a:solidFill>
                  <a:srgbClr val="dddddd"/>
                </a:solidFill>
                <a:latin typeface="Arial Black"/>
                <a:ea typeface="Times New Roman"/>
              </a:rPr>
              <a:t> Hi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0" y="6095880"/>
            <a:ext cx="53341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ff9933"/>
                  </a:outerShdw>
                </a:effectLst>
                <a:latin typeface="Dragon"/>
              </a:rPr>
              <a:t>Who God Seek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ff9933"/>
                </a:outerShdw>
              </a:effectLst>
              <a:latin typeface="Dragon"/>
              <a:ea typeface="Drago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Unquenchable%20Background%2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152280" y="152280"/>
            <a:ext cx="51818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dddddd"/>
                  </a:outerShdw>
                </a:effectLst>
                <a:latin typeface="Dragon"/>
              </a:rPr>
              <a:t>Three Ways God Seeking Yo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dddddd"/>
                </a:outerShdw>
              </a:effectLst>
              <a:latin typeface="Dragon"/>
              <a:ea typeface="Drago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914400"/>
            <a:ext cx="8610480" cy="147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Arial Black"/>
                <a:ea typeface="Times New Roman"/>
              </a:rPr>
              <a:t>2. </a:t>
            </a:r>
            <a:r>
              <a:rPr b="0" lang="en-US" sz="3600" spc="-1" strike="noStrike" u="sng">
                <a:solidFill>
                  <a:srgbClr val="dddddd"/>
                </a:solidFill>
                <a:uFillTx/>
                <a:latin typeface="Arial Black"/>
                <a:ea typeface="Times New Roman"/>
              </a:rPr>
              <a:t>Acknowledge</a:t>
            </a:r>
            <a:r>
              <a:rPr b="0" lang="en-US" sz="3600" spc="-1" strike="noStrike">
                <a:solidFill>
                  <a:srgbClr val="dddddd"/>
                </a:solidFill>
                <a:latin typeface="Arial Black"/>
                <a:ea typeface="Times New Roman"/>
              </a:rPr>
              <a:t> Hi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981080"/>
            <a:ext cx="9144000" cy="223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ddddd"/>
                </a:solidFill>
                <a:latin typeface="Verdana"/>
                <a:ea typeface="Times New Roman"/>
              </a:rPr>
              <a:t>in all your ways acknowledge him, and he will make your paths straight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ddddd"/>
                </a:solidFill>
                <a:latin typeface="Verdana"/>
                <a:ea typeface="Times New Roman"/>
              </a:rPr>
              <a:t>Proverbs 3:6</a:t>
            </a:r>
            <a:r>
              <a:rPr b="0" lang="en-US" sz="4000" spc="-1" strike="noStrike">
                <a:solidFill>
                  <a:srgbClr val="dddddd"/>
                </a:solidFill>
                <a:latin typeface="Verdana"/>
                <a:ea typeface="Times New Roman"/>
              </a:rPr>
              <a:t> (NIV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0" y="6095880"/>
            <a:ext cx="53341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ff9933"/>
                  </a:outerShdw>
                </a:effectLst>
                <a:latin typeface="Dragon"/>
              </a:rPr>
              <a:t>Who God Seek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ff9933"/>
                </a:outerShdw>
              </a:effectLst>
              <a:latin typeface="Dragon"/>
              <a:ea typeface="Drag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Unquenchable%20Background%2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152280" y="152280"/>
            <a:ext cx="51818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dddddd"/>
                  </a:outerShdw>
                </a:effectLst>
                <a:latin typeface="Dragon"/>
              </a:rPr>
              <a:t>Three Ways God Seeking Yo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dddddd"/>
                </a:outerShdw>
              </a:effectLst>
              <a:latin typeface="Dragon"/>
              <a:ea typeface="Drago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914400"/>
            <a:ext cx="8610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Arial Black"/>
                <a:ea typeface="Times New Roman"/>
              </a:rPr>
              <a:t>3. Stay </a:t>
            </a:r>
            <a:r>
              <a:rPr b="0" lang="en-US" sz="3600" spc="-1" strike="noStrike" u="sng">
                <a:solidFill>
                  <a:srgbClr val="dddddd"/>
                </a:solidFill>
                <a:uFillTx/>
                <a:latin typeface="Arial Black"/>
                <a:ea typeface="Times New Roman"/>
              </a:rPr>
              <a:t>Hung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0" y="6095880"/>
            <a:ext cx="53341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ff9933"/>
                  </a:outerShdw>
                </a:effectLst>
                <a:latin typeface="Dragon"/>
              </a:rPr>
              <a:t>Who God Seek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ff9933"/>
                </a:outerShdw>
              </a:effectLst>
              <a:latin typeface="Dragon"/>
              <a:ea typeface="Drago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5T18:18:53Z</dcterms:created>
  <dc:creator>Jason Curlee</dc:creator>
  <dc:description/>
  <dc:language>en-US</dc:language>
  <cp:lastModifiedBy>Jason Curlee</cp:lastModifiedBy>
  <dcterms:modified xsi:type="dcterms:W3CDTF">2006-11-01T18:57:43Z</dcterms:modified>
  <cp:revision>5</cp:revision>
  <dc:subject/>
  <dc:title>PowerPoint Presentation</dc:title>
</cp:coreProperties>
</file>