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20A-B36A-49CF-AF09-484A3F82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FDB-AABC-4B5A-B0CE-68675E5E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B64-EFE8-4FEF-B562-73472B72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914-CBF2-4BD8-9F99-020C73B0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D85-B003-42D9-B2E8-9154F165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EE7-2731-4D33-91FF-DDAAE67E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B1B-185A-4469-9405-B792B901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B2C-D874-4335-8E23-04CB35EE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6B7-1596-469F-A86A-5673B380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C93-B68D-4B3F-9889-95DC0E02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035-218F-4BD6-BA50-33D31043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EDF-E729-4F97-8E8B-A0FAD502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FA90-66D9-443B-B49F-8DEB1E519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Unquenchab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Unquenchab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Unquenchab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52280" y="1219320"/>
            <a:ext cx="33530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Mu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Worshi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Unquenchable%20Background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431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Yet a time is coming and has now come when the true worshipers will worship the Father in spirit and truth, for they are the kind of worshipers the Father seeks. </a:t>
            </a:r>
            <a:r>
              <a:rPr b="0" i="1" lang="en-US" sz="3600" spc="-1" strike="noStrike" u="sng">
                <a:solidFill>
                  <a:srgbClr val="dddddd"/>
                </a:solidFill>
                <a:uFillTx/>
                <a:latin typeface="Arial Black"/>
                <a:ea typeface="Times New Roman"/>
              </a:rPr>
              <a:t>God is spirit, and his worshipers must worship in spirit and in truth</a:t>
            </a:r>
            <a:r>
              <a:rPr b="0" i="1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.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Dragon"/>
                <a:ea typeface="Times New Roman"/>
              </a:rPr>
              <a:t>John 4:23-2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60958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I Must Worshi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Unquenchable%20Background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Worshipers who “must” worship God bring God into _______ as they _______ to God’s reality thus _________ Him above their problem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22860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Dragon"/>
              </a:rPr>
              <a:t>Big Ide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Dragon"/>
              <a:ea typeface="Drago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60958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I Must Worshi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Unquenchable%20Background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52280" y="152280"/>
            <a:ext cx="5181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Dragon"/>
              </a:rPr>
              <a:t>Two Ways to Magnify G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Dragon"/>
              <a:ea typeface="Drago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14400"/>
            <a:ext cx="861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1. 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Arial Black"/>
                <a:ea typeface="Times New Roman"/>
              </a:rPr>
              <a:t>Focus</a:t>
            </a: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 On G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60958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I Must Worshi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Unquenchable%20Background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52280" y="152280"/>
            <a:ext cx="5181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Dragon"/>
              </a:rPr>
              <a:t>Two Ways to Magnify G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Dragon"/>
              <a:ea typeface="Drago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914400"/>
            <a:ext cx="861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1. 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Arial Black"/>
                <a:ea typeface="Times New Roman"/>
              </a:rPr>
              <a:t>Focus</a:t>
            </a: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 On G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9810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Worshiping God in spirit brings God into proper foc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60958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I Must Worshi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Unquenchable%20Background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52280" y="152280"/>
            <a:ext cx="5181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Dragon"/>
              </a:rPr>
              <a:t>Two Ways to Magnify G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Dragon"/>
              <a:ea typeface="Drago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914400"/>
            <a:ext cx="861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1. 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Arial Black"/>
                <a:ea typeface="Times New Roman"/>
              </a:rPr>
              <a:t>Focus</a:t>
            </a: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 On G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981080"/>
            <a:ext cx="9144000" cy="284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”</a:t>
            </a:r>
            <a:r>
              <a:rPr b="0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What we focus on and choose to see is what brings us feelings of joy or feelings of despair.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Lloyd Newell</a:t>
            </a:r>
            <a:r>
              <a:rPr b="0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60958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I Must Worshi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Unquenchable%20Background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914400"/>
            <a:ext cx="861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2. 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Arial Black"/>
                <a:ea typeface="Times New Roman"/>
              </a:rPr>
              <a:t>Respond</a:t>
            </a: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 To G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60958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I Must Worshi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2280" y="152280"/>
            <a:ext cx="5181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Dragon"/>
              </a:rPr>
              <a:t>Two Ways to Magnify G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Dragon"/>
              <a:ea typeface="Drago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Unquenchable%20Background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520" y="914400"/>
            <a:ext cx="861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2. </a:t>
            </a:r>
            <a:r>
              <a:rPr b="0" lang="en-US" sz="3600" spc="-1" strike="noStrike" u="sng">
                <a:solidFill>
                  <a:srgbClr val="dddddd"/>
                </a:solidFill>
                <a:uFillTx/>
                <a:latin typeface="Arial Black"/>
                <a:ea typeface="Times New Roman"/>
              </a:rPr>
              <a:t>Respond</a:t>
            </a:r>
            <a:r>
              <a:rPr b="0" lang="en-US" sz="3600" spc="-1" strike="noStrike">
                <a:solidFill>
                  <a:srgbClr val="dddddd"/>
                </a:solidFill>
                <a:latin typeface="Arial Black"/>
                <a:ea typeface="Times New Roman"/>
              </a:rPr>
              <a:t> To G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9810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Verdana"/>
                <a:ea typeface="Times New Roman"/>
              </a:rPr>
              <a:t>Worship in truth is worship grounded in God’s W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6095880"/>
            <a:ext cx="5334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9933"/>
                  </a:outerShdw>
                </a:effectLst>
                <a:latin typeface="Dragon"/>
              </a:rPr>
              <a:t>I Must Worshi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9933"/>
                </a:outerShdw>
              </a:effectLst>
              <a:latin typeface="Dragon"/>
              <a:ea typeface="Drago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52280" y="152280"/>
            <a:ext cx="5181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Dragon"/>
              </a:rPr>
              <a:t>Two Ways to Magnify G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Dragon"/>
              <a:ea typeface="Drag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8:18:53Z</dcterms:created>
  <dc:creator>Jason Curlee</dc:creator>
  <dc:description/>
  <dc:language>en-US</dc:language>
  <cp:lastModifiedBy>Jason Curlee</cp:lastModifiedBy>
  <dcterms:modified xsi:type="dcterms:W3CDTF">2006-11-08T19:09:58Z</dcterms:modified>
  <cp:revision>7</cp:revision>
  <dc:subject/>
  <dc:title>PowerPoint Presentation</dc:title>
</cp:coreProperties>
</file>