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55A-9C0B-4FD3-BEEC-F9AB3B61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0E6-7A9A-483D-BDAD-4AE6ADE4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9F7-4AF4-4AA5-9A0D-2C743ADF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359-F3CB-4A68-A421-520C6574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FED-5941-4A9C-9E48-658CEF27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553-0F71-47BC-A7A8-153F59AB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8E1-CF5C-4527-BCB0-CAB70F00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8D5-5B96-4C2C-85B4-B277B6E5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3EE-3ACB-4D28-B10A-C37EA57E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0B3-04C1-4E74-BCE3-C625CB2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AF3-A3DF-4EEF-8236-C73BEEC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D41-7156-4A75-894F-69E2344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9C8B-067E-45B1-8AC4-BDE6B8BD8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od%20of%20Wrath%20layer%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lou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oxica"/>
              </a:rPr>
              <a:t>Group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0948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oxica"/>
              </a:rPr>
              <a:t>Group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81080"/>
            <a:ext cx="403848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oxica"/>
              </a:rPr>
              <a:t>Define 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133720"/>
            <a:ext cx="403848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oxica"/>
              </a:rPr>
              <a:t>Define wr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ramatic%20Challeng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Dust"/>
              </a:rPr>
              <a:t>Group 1 – The F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429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Dust"/>
              </a:rPr>
              <a:t>Group 2 – Jesus Clears the T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Dust"/>
              </a:rPr>
              <a:t>Group 3 – Ananias &amp; Sapph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lou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od%20of%20Wrath%20layer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od%20of%20Wrath%20layer%2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od%20of%20Wrath%20layer%2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d%20of%20Wrath%20layer%2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5:44:46Z</dcterms:created>
  <dc:creator>Brett Hetherington</dc:creator>
  <dc:description/>
  <dc:language>en-US</dc:language>
  <cp:lastModifiedBy>Brett Hetherington</cp:lastModifiedBy>
  <dcterms:modified xsi:type="dcterms:W3CDTF">2007-11-14T06:21:00Z</dcterms:modified>
  <cp:revision>9</cp:revision>
  <dc:subject/>
  <dc:title>PowerPoint Presentation</dc:title>
</cp:coreProperties>
</file>