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0E7-2AAB-4019-AC7E-D880E950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D71-1CDB-4E75-9667-4A54FB3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D9D-CC64-4586-AF1F-B71F3C53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9E6-7661-4470-B9B8-31327F93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66F-E535-4853-A737-2E5B029F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A31-3D6E-48E8-8957-C3B7D463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452-B0E4-43C7-B0C7-F8ED242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6FA-12CE-4892-8A55-B6C089AD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B97-9D27-4264-932C-D6C22F3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8DF-83F1-4055-A01E-A6938AD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30A-3ED5-4F3C-9307-0CCF39D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A5C-BAF9-4C6F-8186-1487B1B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7CD-D22E-49BE-891F-F1AF56D22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87631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 Will Be My Witnesses…To The Ends Of The Ear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14400"/>
            <a:ext cx="87631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Th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O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_day_04_gross" descr=""/>
          <p:cNvPicPr/>
          <p:nvPr/>
        </p:nvPicPr>
        <p:blipFill>
          <a:blip r:embed="rId2"/>
          <a:stretch/>
        </p:blipFill>
        <p:spPr>
          <a:xfrm>
            <a:off x="2286000" y="1450800"/>
            <a:ext cx="5943600" cy="391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152280"/>
            <a:ext cx="3962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Lynda"/>
              </a:rPr>
              <a:t>D-D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464832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WERFUL MI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utterflyeffect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1120" cy="2833920"/>
          </a:xfrm>
          <a:prstGeom prst="rect">
            <a:avLst/>
          </a:prstGeom>
          <a:ln w="0">
            <a:noFill/>
          </a:ln>
        </p:spPr>
      </p:pic>
      <p:pic>
        <p:nvPicPr>
          <p:cNvPr id="47" name="butterfly_effect" descr=""/>
          <p:cNvPicPr/>
          <p:nvPr/>
        </p:nvPicPr>
        <p:blipFill>
          <a:blip r:embed="rId3"/>
          <a:stretch/>
        </p:blipFill>
        <p:spPr>
          <a:xfrm>
            <a:off x="3048120" y="3276720"/>
            <a:ext cx="5933880" cy="2541600"/>
          </a:xfrm>
          <a:prstGeom prst="rect">
            <a:avLst/>
          </a:prstGeom>
          <a:ln w="0">
            <a:noFill/>
          </a:ln>
        </p:spPr>
      </p:pic>
      <p:pic>
        <p:nvPicPr>
          <p:cNvPr id="48" name="butterflyblue" descr="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206400">
            <a:off x="298080" y="2586600"/>
            <a:ext cx="8001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Lynda"/>
              </a:rPr>
              <a:t>The Butterfly Eff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80880"/>
            <a:ext cx="8686800" cy="390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ecff"/>
                </a:solidFill>
                <a:latin typeface="Arial Black"/>
              </a:rPr>
              <a:t>Big Id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One Powerful Mission Live for Christ … Change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5740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Will Receive Pow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87631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When The Holy Spirit Comes On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0:54:04Z</dcterms:created>
  <dc:creator>Jason Curlee</dc:creator>
  <dc:description/>
  <dc:language>en-US</dc:language>
  <cp:lastModifiedBy>Jason Curlee</cp:lastModifiedBy>
  <dcterms:modified xsi:type="dcterms:W3CDTF">2007-04-25T16:35:34Z</dcterms:modified>
  <cp:revision>9</cp:revision>
  <dc:subject/>
  <dc:title>PowerPoint Presentation</dc:title>
</cp:coreProperties>
</file>