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165-17B6-4A00-8A2C-D92114E6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752-AB09-4976-A104-E8A74948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848-CA0C-4C16-B883-88716DD7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B59-2A0C-438B-AA35-DE0A70AB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202-E744-4A0A-8F39-8677F8B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DB8-1DF8-403D-A1DE-F42CEA4B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19F-8713-4690-92D0-38E39692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5E1-6BB7-41E7-8DA9-75CE9B24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1E8-65E1-4963-8729-610F4CA5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492-0ABF-4582-AB35-AF4F0541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2EC-D609-4FEF-BEDD-F22F001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3E2-8C3A-4D76-831B-432A784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4AC4-4819-4D52-80DC-D4EB9E317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143000"/>
            <a:ext cx="87631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Rewire You Identi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4648320"/>
            <a:ext cx="6476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W IDENT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80880"/>
            <a:ext cx="8839440" cy="433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ecff"/>
                </a:solidFill>
                <a:latin typeface="Arial Black"/>
              </a:rPr>
              <a:t>Big Id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Arial"/>
              </a:rPr>
              <a:t>A New Identity for a Powerful Mis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05740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YO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7631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You Will Receive Pow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8600"/>
            <a:ext cx="87631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You Will Receive Power When The Holy Spirit Comes On Yo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0:54:04Z</dcterms:created>
  <dc:creator>Jason Curlee</dc:creator>
  <dc:description/>
  <dc:language>en-US</dc:language>
  <cp:lastModifiedBy>Jason Curlee</cp:lastModifiedBy>
  <dcterms:modified xsi:type="dcterms:W3CDTF">2007-04-18T19:40:27Z</dcterms:modified>
  <cp:revision>4</cp:revision>
  <dc:subject/>
  <dc:title>PowerPoint Presentation</dc:title>
</cp:coreProperties>
</file>