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D9F-56C2-46AA-AB1B-C067AF95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603-3148-4250-9E44-FB86282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866-8934-4AB7-84E1-C5A3F4D5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63A-17FF-4207-918E-C7095A85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E33-F51D-42EA-9C96-C01B5A12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E22-1D67-4B74-9626-20EE55E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23A-F807-493D-8214-9D3DA5A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C7F-37F1-45FE-B8F7-0657094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C3C-EBC4-4A63-8CFD-C55F25D4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0A6-521B-4AF1-A497-FD39FA4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AC7-0D64-48F0-B8DA-0832069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959-AD73-43CD-A572-70DC819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899-AABD-45B0-9165-0D06F5AB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143000"/>
            <a:ext cx="87631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Thin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Lik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Chr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143000"/>
            <a:ext cx="8763120" cy="347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Think of yourselves the way Christ Jesus thought of himsel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Philippians 2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4648320"/>
            <a:ext cx="64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ULTIMATE HE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80880"/>
            <a:ext cx="8839440" cy="377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Definition of a H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  <a:ea typeface="Arial"/>
              </a:rPr>
              <a:t>1.  a man or woman distinguished by exceptional courage and nobility an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  <a:ea typeface="Arial"/>
              </a:rPr>
              <a:t>2.  someone who fights for a c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80880"/>
            <a:ext cx="8839440" cy="299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Big Ide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Be Powered Up To Do It Through Chri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8763120" cy="43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But you will receive power when the Holy Spirit comes on you; and you will be my witnesses in Jerusalem, and in all Judea and Samaria, and to the ends of the earth."</a:t>
            </a:r>
            <a:r>
              <a:rPr b="0" lang="en-US" sz="46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Acts 1:8</a:t>
            </a:r>
            <a:r>
              <a:rPr b="0" lang="en-US" sz="46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05740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0:54:04Z</dcterms:created>
  <dc:creator>Jason Curlee</dc:creator>
  <dc:description/>
  <dc:language>en-US</dc:language>
  <cp:lastModifiedBy>Jason Curlee</cp:lastModifiedBy>
  <dcterms:modified xsi:type="dcterms:W3CDTF">2007-04-04T20:55:12Z</dcterms:modified>
  <cp:revision>2</cp:revision>
  <dc:subject/>
  <dc:title>PowerPoint Presentation</dc:title>
</cp:coreProperties>
</file>