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67C-E8D2-4565-8043-1D4A7976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296-2C69-460A-B09A-6840BB16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EB2-7354-4819-A9C2-D1208087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FA7-CAB1-4D28-A599-5E77C817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30F0-8786-4D69-81E6-9F8439CB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DB30-5E7A-46E8-9CFE-97E3A442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9B4C-C988-42F3-AB77-6AD7DF20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94E1-81F4-481C-8D06-B1A38A90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13DE-82C0-49FD-B983-9BFF4CA0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C60C-50ED-4B22-B9F2-47C12BFB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C187-1AE7-4BD5-9698-B534CCFC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07B-A5F8-4792-9AA0-B1FBA7DD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FD0F-B2DE-4542-8857-6B567860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1E3C-2C0E-44D7-9BAE-20676802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A6F9-C740-43A2-8758-1657BE32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925D-9907-443F-AD8C-5FEB5A54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C4C2-13B7-4679-829A-A11A510C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581-9B28-4E7B-A593-E8C08FCF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005-205A-4F28-AAA0-414A2CAB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1AB-2F95-4431-A765-9B708963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B174-DC42-4B68-818C-C79C3719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874C-44C6-4B4C-9349-0BA6EBA3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AB93-C66F-4323-A014-01A3FD2C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410-9BAA-41B6-87E4-F198A39C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BCE8-F40F-4EC2-AC1E-21EBA75AD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8B76-55DC-41C8-A5F3-DD438819F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33280" y="2166840"/>
            <a:ext cx="683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Taming the Tongu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819520" y="3352680"/>
            <a:ext cx="34290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09880" y="3352680"/>
            <a:ext cx="2667240" cy="255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920" y="838080"/>
            <a:ext cx="3238560" cy="523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629400" y="3200400"/>
            <a:ext cx="2228760" cy="2971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001040" y="1600200"/>
            <a:ext cx="469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are the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524400" cy="2880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140360" cy="2832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33520" y="1676520"/>
            <a:ext cx="378432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609480"/>
            <a:ext cx="393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indsurf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227808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343400" y="60948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09480" y="380880"/>
            <a:ext cx="2390760" cy="2706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48400" y="4267080"/>
            <a:ext cx="469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are the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919840" y="594360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ames 3:1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33280" y="2166840"/>
            <a:ext cx="683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Taming the Tongu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819520" y="3352680"/>
            <a:ext cx="34290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6T13:19:31Z</dcterms:created>
  <dc:creator>Tim Schmoyer</dc:creator>
  <dc:description/>
  <dc:language>en-US</dc:language>
  <cp:lastModifiedBy>Tim Schmoyer</cp:lastModifiedBy>
  <dcterms:modified xsi:type="dcterms:W3CDTF">2006-10-28T07:29:32Z</dcterms:modified>
  <cp:revision>4</cp:revision>
  <dc:subject/>
  <dc:title>Slide 1</dc:title>
</cp:coreProperties>
</file>