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F3A84-85D8-4848-B842-21390C6B8C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C41F6-6069-4D33-8E83-BA23E6206F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E9790-7B77-4E09-89F6-A01C45B4AB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CE65E-6C00-4E35-BB35-CEFA7E417F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9FAE1-E178-4808-98B4-53D90EC233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CDAF2-19FB-4147-AC4C-5622B29469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44CD7-674E-438F-8D98-3773C1696F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853B2-F2BF-41D7-8F60-BD9580B8CA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76904-2A93-4786-B7DA-B1F0000945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B7297-8527-460B-9F40-9A8BB8ED23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71035-B11E-4B45-91E9-652CFBE270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1A928-38D6-4008-BB9D-7B4EB5CD75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84760" y="6399360"/>
            <a:ext cx="2682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36231-CD80-453E-9A00-ECA8DD03F15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5867280" y="190512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380880" y="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-55440" y="2523960"/>
            <a:ext cx="4889520" cy="2024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3486240" y="4017960"/>
            <a:ext cx="1549440" cy="1103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5"/>
          <a:stretch/>
        </p:blipFill>
        <p:spPr>
          <a:xfrm>
            <a:off x="3852720" y="4737240"/>
            <a:ext cx="5767560" cy="20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486400" y="15228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80880" y="0"/>
            <a:ext cx="3810240" cy="28576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200400" y="3995640"/>
            <a:ext cx="5956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atermelon Eating Contes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352680"/>
            <a:ext cx="9144000" cy="180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4570560" y="1440"/>
            <a:ext cx="2880" cy="335304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52280" y="4267080"/>
            <a:ext cx="300384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486400" y="15228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80880" y="0"/>
            <a:ext cx="3810240" cy="28576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200400" y="3809880"/>
            <a:ext cx="5956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pple Butter Suprem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352680"/>
            <a:ext cx="9144000" cy="180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4570560" y="1440"/>
            <a:ext cx="2880" cy="335304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152280" y="4114800"/>
            <a:ext cx="284508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486400" y="15228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80880" y="0"/>
            <a:ext cx="3810240" cy="28576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752480" y="4419720"/>
            <a:ext cx="59565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nswers. . 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352680"/>
            <a:ext cx="9144000" cy="180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4570560" y="1440"/>
            <a:ext cx="2880" cy="335304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486400" y="15228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80880" y="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0" y="3970440"/>
            <a:ext cx="3632040" cy="28875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505320" y="4419720"/>
            <a:ext cx="5346720" cy="20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oconut Fever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352680"/>
            <a:ext cx="9144000" cy="180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570560" y="1440"/>
            <a:ext cx="2880" cy="335304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486400" y="15228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80880" y="0"/>
            <a:ext cx="3810240" cy="28576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200400" y="4419720"/>
            <a:ext cx="59562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is Is Nut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352680"/>
            <a:ext cx="9144000" cy="180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4570560" y="1440"/>
            <a:ext cx="2880" cy="335304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0" y="3886200"/>
            <a:ext cx="313056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486400" y="15228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80880" y="0"/>
            <a:ext cx="3810240" cy="28576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200400" y="4419720"/>
            <a:ext cx="5956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Rachels Browni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3352680"/>
            <a:ext cx="9144000" cy="180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4570560" y="1440"/>
            <a:ext cx="2880" cy="335304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0" y="3809880"/>
            <a:ext cx="310356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486400" y="15228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80880" y="0"/>
            <a:ext cx="3810240" cy="28576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200400" y="4419720"/>
            <a:ext cx="59562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Mint Cherry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3352680"/>
            <a:ext cx="9144000" cy="180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4570560" y="1440"/>
            <a:ext cx="2880" cy="335304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28600" y="3657600"/>
            <a:ext cx="25830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486400" y="15228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80880" y="0"/>
            <a:ext cx="3810240" cy="28576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200400" y="4419720"/>
            <a:ext cx="5956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aramel Sunspo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352680"/>
            <a:ext cx="9144000" cy="180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4570560" y="1440"/>
            <a:ext cx="2880" cy="335304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0" y="3962520"/>
            <a:ext cx="316548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486400" y="15228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80880" y="0"/>
            <a:ext cx="3810240" cy="28576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200400" y="4419720"/>
            <a:ext cx="59562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nnessee Mud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3352680"/>
            <a:ext cx="9144000" cy="180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570560" y="1440"/>
            <a:ext cx="2880" cy="335304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0" y="4038480"/>
            <a:ext cx="307008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486400" y="15228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80880" y="0"/>
            <a:ext cx="3810240" cy="28576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200400" y="4419720"/>
            <a:ext cx="59562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apecodder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3352680"/>
            <a:ext cx="9144000" cy="180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570560" y="1440"/>
            <a:ext cx="2880" cy="335304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0" y="3962520"/>
            <a:ext cx="3228840" cy="190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486400" y="15228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80880" y="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3970440"/>
            <a:ext cx="3632040" cy="28875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505320" y="4419720"/>
            <a:ext cx="5346720" cy="20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oconut Fever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352680"/>
            <a:ext cx="9144000" cy="180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4570560" y="1440"/>
            <a:ext cx="2880" cy="335304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486400" y="15228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380880" y="0"/>
            <a:ext cx="3810240" cy="28576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200400" y="4419720"/>
            <a:ext cx="5956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weet Potato Pi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352680"/>
            <a:ext cx="9144000" cy="180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570560" y="1440"/>
            <a:ext cx="2880" cy="335304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76320" y="4114800"/>
            <a:ext cx="314964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486400" y="15228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80880" y="0"/>
            <a:ext cx="3810240" cy="28576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200400" y="3995640"/>
            <a:ext cx="5956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atermelon Eating Contes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352680"/>
            <a:ext cx="9144000" cy="180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4570560" y="1440"/>
            <a:ext cx="2880" cy="335304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152280" y="4267080"/>
            <a:ext cx="300384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486400" y="15228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80880" y="0"/>
            <a:ext cx="3810240" cy="28576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200400" y="3809880"/>
            <a:ext cx="5956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pple Butter Suprem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352680"/>
            <a:ext cx="9144000" cy="180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4570560" y="1440"/>
            <a:ext cx="2880" cy="335304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152280" y="4114800"/>
            <a:ext cx="284508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867280" y="190512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80880" y="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-55440" y="2523960"/>
            <a:ext cx="4889520" cy="20242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3486240" y="4017960"/>
            <a:ext cx="1549440" cy="11034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3852720" y="4737240"/>
            <a:ext cx="5767560" cy="20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486400" y="15228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80880" y="0"/>
            <a:ext cx="3810240" cy="28576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200400" y="4419720"/>
            <a:ext cx="59562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is Is Nut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352680"/>
            <a:ext cx="9144000" cy="180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4570560" y="1440"/>
            <a:ext cx="2880" cy="335304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0" y="3886200"/>
            <a:ext cx="313056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486400" y="15228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80880" y="0"/>
            <a:ext cx="3810240" cy="28576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200400" y="4419720"/>
            <a:ext cx="5956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Rachels Browni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352680"/>
            <a:ext cx="9144000" cy="180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4570560" y="1440"/>
            <a:ext cx="2880" cy="335304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0" y="3809880"/>
            <a:ext cx="310356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486400" y="15228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80880" y="0"/>
            <a:ext cx="3810240" cy="28576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200400" y="4419720"/>
            <a:ext cx="59562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Mint Cherry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0" y="3352680"/>
            <a:ext cx="9144000" cy="180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4570560" y="1440"/>
            <a:ext cx="2880" cy="335304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228600" y="3657600"/>
            <a:ext cx="25830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486400" y="15228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80880" y="0"/>
            <a:ext cx="3810240" cy="2857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200400" y="4419720"/>
            <a:ext cx="5956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aramel Sunspo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352680"/>
            <a:ext cx="9144000" cy="180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4570560" y="1440"/>
            <a:ext cx="2880" cy="335304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0" y="3962520"/>
            <a:ext cx="316548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486400" y="15228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80880" y="0"/>
            <a:ext cx="3810240" cy="28576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200400" y="4419720"/>
            <a:ext cx="59562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nnessee Mud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352680"/>
            <a:ext cx="9144000" cy="180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4570560" y="1440"/>
            <a:ext cx="2880" cy="335304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0" y="4038480"/>
            <a:ext cx="307008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486400" y="15228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80880" y="0"/>
            <a:ext cx="3810240" cy="28576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200400" y="4419720"/>
            <a:ext cx="59562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apecodder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0" y="3352680"/>
            <a:ext cx="9144000" cy="180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4570560" y="1440"/>
            <a:ext cx="2880" cy="335304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0" y="3962520"/>
            <a:ext cx="3228840" cy="190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486400" y="15228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80880" y="0"/>
            <a:ext cx="3810240" cy="28576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200400" y="4419720"/>
            <a:ext cx="5956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weet Potato Pi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/>
          <p:nvPr/>
        </p:nvSpPr>
        <p:spPr>
          <a:xfrm>
            <a:off x="0" y="3352680"/>
            <a:ext cx="9144000" cy="180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4570560" y="1440"/>
            <a:ext cx="2880" cy="335304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76320" y="4114800"/>
            <a:ext cx="3149640" cy="2362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am Wormann</dc:creator>
  <dc:description/>
  <dc:language>en-US</dc:language>
  <cp:lastModifiedBy/>
  <cp:revision>0</cp:revision>
  <dc:subject/>
  <dc:title>Slide 1</dc:title>
</cp:coreProperties>
</file>